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F453-8052-4AB7-B9B1-78B26CFF6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E640-58B2-4395-B3D2-E85836B6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6B39-C0A1-4D63-84DD-BD408CA71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533C-421B-411C-A31D-3D6F2F780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81AA-B18D-4A9A-9153-7D76F50F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A2B6-1CEA-49D4-9C30-C92F10CF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8C8B-D495-4951-9FA9-EB1808E3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8A99-9A77-4D0C-B2F3-65CE2C9F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7C6A-F14C-48E9-9E49-B25422C9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7AD7-409B-4ED1-A07C-5E3B323D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CF06-4B32-485A-B225-C93C2B38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D87F-5A62-461A-8839-0B2E91DC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889A6D-0C1D-49C5-995A-4B70BC6164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731D1D-2ABA-4492-94C1-AB6FABCD04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00:42:25Z</dcterms:created>
  <dc:creator>Caroline Roth</dc:creator>
  <dc:description/>
  <dc:language>en-US</dc:language>
  <cp:lastModifiedBy>Caroline Roth</cp:lastModifiedBy>
  <cp:lastPrinted>2011-02-10T03:42:45Z</cp:lastPrinted>
  <dcterms:modified xsi:type="dcterms:W3CDTF">2011-02-22T00:27:16Z</dcterms:modified>
  <cp:revision>4</cp:revision>
  <dc:subject/>
  <dc:title>Slide 1</dc:title>
</cp:coreProperties>
</file>